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05843"/>
        <c:axId val="53836460"/>
      </c:barChart>
      <c:catAx>
        <c:axId val="29605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36460"/>
        <c:crosses val="autoZero"/>
        <c:auto val="1"/>
        <c:lblAlgn val="ctr"/>
        <c:lblOffset val="100"/>
        <c:noMultiLvlLbl val="0"/>
      </c:catAx>
      <c:valAx>
        <c:axId val="53836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05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B93-4185-4684-9BD0-A6F5A674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60D-1D85-4DAB-A4CA-4A29F02A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5CC-FE32-415A-91BC-F469817F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EFC-C3AD-4050-8B03-CD0E9EFD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8D2-198B-4F46-A1A2-53EE8873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5D2-3127-46AE-B762-F12539A9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618-A636-45F7-8D51-C860E3AC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785-32BF-4646-ADF0-AF559512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0F1-8302-44AD-947B-27336E89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283-5F12-4CC3-A5C3-D783C734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6E8-BA9E-4525-B0C2-34D3B2E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FCE-3AC6-492D-A637-95B47AEC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24FE6-FF0C-46FC-BF71-E83261B08F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