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10149"/>
        <c:axId val="81654013"/>
      </c:barChart>
      <c:catAx>
        <c:axId val="58910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54013"/>
        <c:crosses val="autoZero"/>
        <c:auto val="1"/>
        <c:lblAlgn val="ctr"/>
        <c:lblOffset val="100"/>
        <c:noMultiLvlLbl val="0"/>
      </c:catAx>
      <c:valAx>
        <c:axId val="81654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0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84D-D96A-4B31-92EB-B29301BB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1C7-40AC-4F29-B9F2-E03302FC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674-C192-4DA1-9AA1-15693721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84F-771A-4C8D-9A83-DA38735A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C00-299B-4FFE-870D-7CD3175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28E-F9D3-49DA-9B2B-6E1F22DD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1F7-05E3-4F90-8884-E72CAA87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B06-6DB3-4AC5-AEF1-AF7AD1AE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AA7E-367E-4F19-87F4-8969C0F9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09B-3E3F-4DC6-AE23-32BB174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910-BA45-4206-9A78-733B75CE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080-BE84-4B34-8C93-69982A67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E2333-76CA-4B85-8ABE-859231713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