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67853"/>
        <c:axId val="35915778"/>
      </c:barChart>
      <c:catAx>
        <c:axId val="2166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15778"/>
        <c:crosses val="autoZero"/>
        <c:auto val="1"/>
        <c:lblAlgn val="ctr"/>
        <c:lblOffset val="100"/>
        <c:noMultiLvlLbl val="0"/>
      </c:catAx>
      <c:valAx>
        <c:axId val="35915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6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EEA-975A-451E-B66A-35038B29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0E3-1352-4158-AE7B-4A16578B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BF4-198D-4550-837B-F3ABAA90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CF2-7D58-4F00-97FD-DC07EA66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C4E-453D-495C-A2A1-E86D9FE1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C28-0D8D-4A88-AE69-114F3CA8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7B6-708B-4D49-BF26-D8BE9936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6E4-459F-4C5C-AE00-AE72B3B3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801-2F8F-40A7-B3FE-255C9F23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E0B-DA24-452A-9CF9-8EB807B9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461-F19A-4B73-A599-9093646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298-C4E6-4FB7-9C38-EC602EB8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01DBB-F4F9-4CCE-BCD6-CCB42C9221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