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33818"/>
        <c:axId val="40298031"/>
      </c:barChart>
      <c:catAx>
        <c:axId val="5033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98031"/>
        <c:crosses val="autoZero"/>
        <c:auto val="1"/>
        <c:lblAlgn val="ctr"/>
        <c:lblOffset val="100"/>
        <c:noMultiLvlLbl val="0"/>
      </c:catAx>
      <c:valAx>
        <c:axId val="40298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09C-5F17-4F43-8503-53179E27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0E-0979-463F-B210-D014687E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686-92A8-43BC-9095-1CC236A1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0D5-DD58-4E63-9C61-7EDC976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FE1-C8AE-40BF-8F05-94F91F8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CBA-7F77-4400-8E2D-2FF9C2A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5A3-C2E8-4F91-B4AA-20632119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4FD-B1F0-4200-AB08-B1014CA2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040-02C5-4F25-A55D-23ACE9F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3A7-4B15-4E2D-A084-EA79D1C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9EE-15B5-4184-916E-69728F0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09F-FC6E-4E76-A35C-69172BC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58FE9-A1DE-40FF-9143-A1A432E52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