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23450"/>
        <c:axId val="85825841"/>
      </c:barChart>
      <c:catAx>
        <c:axId val="79323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5841"/>
        <c:crosses val="autoZero"/>
        <c:auto val="1"/>
        <c:lblAlgn val="ctr"/>
        <c:lblOffset val="100"/>
        <c:noMultiLvlLbl val="0"/>
      </c:catAx>
      <c:valAx>
        <c:axId val="85825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23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FCE-D037-4022-9CFA-4615C274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F29-A5F9-4F38-BE7D-B4E0106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E6B-E4FE-4FE7-8C62-316C955E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23C-DF32-419D-8105-C9C9E7A6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A93-87A0-41DE-B5BE-86F8E1A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4AD-6617-4DCF-9E5B-2BCF28D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943-2EC9-41DE-AEB0-6C0DAA5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0B5-26DF-4B1F-8A2A-F154178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A0B-F1D4-4F01-B3CB-974E9E12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ED0-D932-4D02-A477-CF5CCED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403-19CB-479D-B4E2-4513FFF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920-9A85-4EE9-BE1E-F9769C6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4B6D-1895-4E66-8F7F-EEF937EA2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