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628474"/>
        <c:axId val="86395625"/>
      </c:barChart>
      <c:catAx>
        <c:axId val="646284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95625"/>
        <c:crosses val="autoZero"/>
        <c:auto val="1"/>
        <c:lblAlgn val="ctr"/>
        <c:lblOffset val="100"/>
        <c:noMultiLvlLbl val="0"/>
      </c:catAx>
      <c:valAx>
        <c:axId val="863956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284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9014-52D9-4F89-B14E-F3FB7380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9A65-E23A-42FA-906C-BF21F3EB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439C-5B0B-4ACA-83BC-C4D411FE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4EFD-DAF8-4155-82E8-511E656C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EB30-04AD-4860-9DBE-55F2067B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0C2-8D17-4973-B19B-8E33A1AE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28B1-8D7B-4A50-BA2E-B1F1CC8A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BA46-2120-4E53-A1BF-571BBD7C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3646-6CB4-4098-A745-8F54C17B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78BF-9AA0-4FDF-BCB9-E90FCA7A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2319-D46A-4DFB-A57D-B3F384B6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E30C-FDD0-450E-9B77-2C85B9F5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35EF2-D563-45FC-8FDA-B06CC2E0B2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