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152578"/>
        <c:axId val="52387403"/>
      </c:barChart>
      <c:catAx>
        <c:axId val="921525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87403"/>
        <c:crosses val="autoZero"/>
        <c:auto val="1"/>
        <c:lblAlgn val="ctr"/>
        <c:lblOffset val="100"/>
        <c:noMultiLvlLbl val="0"/>
      </c:catAx>
      <c:valAx>
        <c:axId val="523874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1525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67AF-682B-4D66-9502-FAC482CFF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52AD-A754-4769-AFD0-41A7144F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388E-8BC7-499D-B4CE-C9DDB1876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833C-66C0-4B07-BFFE-A297CF89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144A-38F3-457B-874A-0E8024DA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CE5A-3414-4F71-BF02-540368F2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ABC6-7746-45C9-AB38-E0726582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45CC-54F3-45A6-906E-37559CBE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7BC0-8E42-4899-8D49-674A7C74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C5AE-CABF-4385-89D3-69D7375A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54A6-6433-499E-89B8-F6558A23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0E43-633D-44C5-8B1B-88B15056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41BEA-32DA-442F-96F9-F3A84E109A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