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81950"/>
        <c:axId val="28138070"/>
      </c:barChart>
      <c:catAx>
        <c:axId val="58881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8070"/>
        <c:crosses val="autoZero"/>
        <c:auto val="1"/>
        <c:lblAlgn val="ctr"/>
        <c:lblOffset val="100"/>
        <c:noMultiLvlLbl val="0"/>
      </c:catAx>
      <c:valAx>
        <c:axId val="28138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1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837-AC9C-411D-8A49-182B8904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0A0-45B2-4878-B446-F615DE6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CE0-0714-40DA-99F3-8B162884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AB6-5B74-44E2-9803-7FCF633F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F12-7482-48E6-BB6E-C3FAF87E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9C7-93A4-4E8C-9BA3-AE4D2F6E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912-4CA8-4682-9041-E38E4518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354-6078-4877-A4C6-DBBA834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D25-C32F-4FD6-A6A6-1B93DF15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EC4-EFE4-4041-8A54-0986B34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3C0-6E56-4DC5-A818-8048B67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045-4B7D-4B2C-84D2-FBE3C5E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127F-3949-4542-B3CC-EC7F5EDF9A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