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200604"/>
        <c:axId val="94319626"/>
      </c:barChart>
      <c:catAx>
        <c:axId val="922006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19626"/>
        <c:crosses val="autoZero"/>
        <c:auto val="1"/>
        <c:lblAlgn val="ctr"/>
        <c:lblOffset val="100"/>
        <c:noMultiLvlLbl val="0"/>
      </c:catAx>
      <c:valAx>
        <c:axId val="943196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006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B5D0-E41A-4295-A527-2FE67B2C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37C6-AA12-47CD-8400-DA2B4537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163-338D-4D87-B411-C4E33557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85AD-F787-49E5-A71C-23B4C3D8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3C90-8E86-4486-AD45-BBF44C07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F765-B6CB-4FEB-8373-AF9D2ACF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AE5C-31CF-4896-A3DD-074C1762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C38-4CF1-4E0A-84A2-CF43B08B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80FD-73D7-440A-B1E0-C9A02ED7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7F1-825D-4B12-917F-9B96371F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6E1-20D4-425D-813F-2895FD60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40A-E5A7-4BF3-BADD-25B48645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59656-AF73-4934-B5EC-B7B2638F19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