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30252"/>
        <c:axId val="36352563"/>
      </c:barChart>
      <c:catAx>
        <c:axId val="36630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52563"/>
        <c:crosses val="autoZero"/>
        <c:auto val="1"/>
        <c:lblAlgn val="ctr"/>
        <c:lblOffset val="100"/>
        <c:noMultiLvlLbl val="0"/>
      </c:catAx>
      <c:valAx>
        <c:axId val="363525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30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C01-F347-4771-8C70-5E9814BE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3219-F6A9-47CE-81C2-4A2B1D73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57A7-7D70-4E77-B72E-235AAC1B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5D0-19FE-4744-893E-3E0BE892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AC9-79E9-419B-AF6A-17AA8FF9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9AB-8C5C-4728-AD91-9EB921AE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F78-F4F0-4DB5-835D-DC169C5E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C29-2A14-4E68-BA08-C011455B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B1A-E256-41D8-871A-8EE49C85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1C6-58B2-4B73-8817-3EE2DBF4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821-4A90-43D5-A814-EF385843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AFA-A332-47B5-98E4-ED892403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95CF8-268B-42BB-85FE-98BE8D6EDA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