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67774"/>
        <c:axId val="85751112"/>
      </c:barChart>
      <c:catAx>
        <c:axId val="562677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51112"/>
        <c:crosses val="autoZero"/>
        <c:auto val="1"/>
        <c:lblAlgn val="ctr"/>
        <c:lblOffset val="100"/>
        <c:noMultiLvlLbl val="0"/>
      </c:catAx>
      <c:valAx>
        <c:axId val="85751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677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950-49D2-4855-BC21-9964B38D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919-6344-4EC1-825A-6BF1D59D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C8B-B331-4C69-8FF3-E5D227E8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521E-931B-4990-9738-A2CA02D8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E56-35CC-477F-AA38-3AB9F549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D11-E440-45BD-BE2F-AF233DCD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E934-E402-457D-AE04-B1035796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FF8F-0D22-4DEC-A07F-F0550085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C645-E758-4872-8B94-2A823330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74E-45AC-4FF1-BD1D-08586260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EC7-D2C2-44A5-B67A-E7328226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18C-1382-4E5A-B3F0-5085D38B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8FD5B-92C4-420D-969D-211827173E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