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48987"/>
        <c:axId val="60026645"/>
      </c:barChart>
      <c:catAx>
        <c:axId val="59048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6645"/>
        <c:crosses val="autoZero"/>
        <c:auto val="1"/>
        <c:lblAlgn val="ctr"/>
        <c:lblOffset val="100"/>
        <c:noMultiLvlLbl val="0"/>
      </c:catAx>
      <c:valAx>
        <c:axId val="60026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8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53F-2EA7-4E5D-A3DC-D79D7A65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DA9-1A03-4646-8717-2EBBF79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10E-B1AC-4245-AB83-5E43D585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ACC-3FC6-4ACA-B75F-8DC9B7C2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218-9313-4439-9142-5DC6F26C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3F8-4632-42B1-8ACC-8CD8782F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15C-AACB-41C6-B624-18CA2E9D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943-56E8-4E32-8E9A-EB061B46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BCF-4D56-44C7-A514-C9DCE983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35B-4602-4062-A3FB-FA7BF6D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247-A3E6-4E87-BCD4-01B0A44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156-44AC-4169-92B1-64FACB07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D4D4C-3B17-4ACF-B04E-143502B8E2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