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48074"/>
        <c:axId val="23718401"/>
      </c:barChart>
      <c:catAx>
        <c:axId val="24480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18401"/>
        <c:crosses val="autoZero"/>
        <c:auto val="1"/>
        <c:lblAlgn val="ctr"/>
        <c:lblOffset val="100"/>
        <c:noMultiLvlLbl val="0"/>
      </c:catAx>
      <c:valAx>
        <c:axId val="237184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480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F313-0DF7-4FB5-83F6-3EFB30004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ED55-85F7-45F8-8EC9-5C89A61E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07D2-ACE3-442F-853E-2070866F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CD3A-11CC-4149-8EC0-A8E744322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52F4-5BE2-463F-98B9-3126D75F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6C62-4338-4CD0-BED3-C62C616C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5A37-AB57-4AD3-9B76-817B7313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86C3-7C4B-4FDD-9B8D-E5A152E9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F11A-7AFE-4302-94EE-8549A612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A33D-D7BA-4B30-8803-AB5DCB75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1956-EEA1-461B-B478-3C7FACCB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B145-9292-4FC7-95F4-BA2CBA7D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E1576-9795-4BF1-9D6F-DC807C9693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