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63899"/>
        <c:axId val="99153276"/>
      </c:barChart>
      <c:catAx>
        <c:axId val="82863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53276"/>
        <c:crosses val="autoZero"/>
        <c:auto val="1"/>
        <c:lblAlgn val="ctr"/>
        <c:lblOffset val="100"/>
        <c:noMultiLvlLbl val="0"/>
      </c:catAx>
      <c:valAx>
        <c:axId val="99153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63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C81-A403-44EF-BE5F-34A330A5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959-AEFA-46FF-836B-CF1AB072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DE3-9A7F-4D7D-B1E0-5AA4B32A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79E-5A83-4740-8084-CB96C5B7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C61-36BE-4400-93EC-65C6FD98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724-2342-455C-B99F-23020EB8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650-BF98-4A2F-A486-0475AA29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0A4-22E3-445E-8264-6D2A8021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9AC-8C71-485A-98FA-2DDD50B8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3D5-62BE-470A-AE3F-C2A01DA5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827-B61D-4EBB-8C15-F038D62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E46-568C-42B6-B8B6-0B37E1BC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9C447-652E-415D-84E0-B57E4E7F1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