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64110"/>
        <c:axId val="75385705"/>
      </c:barChart>
      <c:catAx>
        <c:axId val="86464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85705"/>
        <c:crosses val="autoZero"/>
        <c:auto val="1"/>
        <c:lblAlgn val="ctr"/>
        <c:lblOffset val="100"/>
        <c:noMultiLvlLbl val="0"/>
      </c:catAx>
      <c:valAx>
        <c:axId val="75385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64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AC8-F98F-484C-9E22-037B302F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404-9B73-4E9E-9439-088CC845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BFD-2702-4262-A26D-8118D7E6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F19-8C39-418C-8C97-59C75A08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05F-03AA-4FD4-9920-A50B4C29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AD2-D9B8-41A6-BE5F-2FDE7B77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F98-9E05-4958-9C7F-280F1B5D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DEC-2E1A-4CAA-BA4F-A78B0975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D65-2634-4CCF-8AAC-3CA2AAE5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A8B-9607-45A8-986A-3FA9D7DA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A69-E596-402B-9EE3-F0E42C82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5D1-FD84-4E90-A9E3-504609F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7579D-C9AA-431C-876D-6462ADFBBD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