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35672"/>
        <c:axId val="79833454"/>
      </c:barChart>
      <c:catAx>
        <c:axId val="413356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33454"/>
        <c:crosses val="autoZero"/>
        <c:auto val="1"/>
        <c:lblAlgn val="ctr"/>
        <c:lblOffset val="100"/>
        <c:noMultiLvlLbl val="0"/>
      </c:catAx>
      <c:valAx>
        <c:axId val="79833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356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84FB-D22E-4960-AB5B-9E376D8E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DEC3-9722-4BF9-B1ED-42F67E6E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B36-7DF4-468D-8448-20081861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1C2F-8331-444A-8DDB-4A15A9F0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61C9-CBBA-45BD-ABFD-F3C0F696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84F0-7E12-4DB3-A1F1-DDD9A511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8F08-6CDA-4EA7-9CC9-73F66CA7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ADEB-D2A1-4005-8F7B-DB408BC3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A870-F29D-41EE-BCA6-A7F6D20C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DB6E-B384-4C28-8DC9-E36278E7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4F19-7D68-4B6E-862A-FDAA9DF2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7F0C-4B41-47C8-AED1-F59C3470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25B9C-9B1A-4EDA-8E01-DCFD0DBEFC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