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85858"/>
        <c:axId val="32454300"/>
      </c:barChart>
      <c:catAx>
        <c:axId val="89085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54300"/>
        <c:crosses val="autoZero"/>
        <c:auto val="1"/>
        <c:lblAlgn val="ctr"/>
        <c:lblOffset val="100"/>
        <c:noMultiLvlLbl val="0"/>
      </c:catAx>
      <c:valAx>
        <c:axId val="32454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85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7D3-AC85-4658-A2D8-1FD710E6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CE1-3C6B-4A14-92C6-E3C00AD8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D07-D02C-4917-B89D-2BC669FF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135-6370-4576-9F30-01AAC74B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FFE-CFA8-4907-AFD3-F6D09A04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18A-9367-4C28-81B6-3C9AE717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B1F-BD93-4A84-8438-2F229044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A4D-43D9-4A42-86D4-76A31A4D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422-EC9C-4B5C-A8BC-5CDECE1F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1D9-CC49-4136-B307-11BD9C0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01D-44E0-4281-8338-C3FBD9F8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258-410E-488E-8936-158664A4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2E314-38E6-47A7-8730-31782F4573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