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60061"/>
        <c:axId val="79960979"/>
      </c:barChart>
      <c:catAx>
        <c:axId val="75460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60979"/>
        <c:crosses val="autoZero"/>
        <c:auto val="1"/>
        <c:lblAlgn val="ctr"/>
        <c:lblOffset val="100"/>
        <c:noMultiLvlLbl val="0"/>
      </c:catAx>
      <c:valAx>
        <c:axId val="79960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60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58F-8A63-4154-A935-C4C97118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8B8-5741-40F3-8A2A-5CD48826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EBB-693F-4897-BD93-B85F2C47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9F9-CF4A-49EC-A386-3F20D3F2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77A-7FDA-4B1F-BBAE-0269F555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910-FB8E-48BA-96A4-1FE61978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A5E-850F-4E99-A8AC-6F7002B1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015-43B4-494F-B6F2-F025E604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037-1D53-40AC-9EB0-8E706A15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D6D-28B4-4D1A-8876-99A9F3C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54A-2C62-469D-92AC-EA04F597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BD8-F186-41BE-B77C-A7FF863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C2D68-E13E-4A99-8907-9E2F4BB11D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