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458555"/>
        <c:axId val="68782722"/>
      </c:barChart>
      <c:catAx>
        <c:axId val="814585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82722"/>
        <c:crosses val="autoZero"/>
        <c:auto val="1"/>
        <c:lblAlgn val="ctr"/>
        <c:lblOffset val="100"/>
        <c:noMultiLvlLbl val="0"/>
      </c:catAx>
      <c:valAx>
        <c:axId val="687827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585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A589-0DF3-4436-9020-C9387591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B7A6-090A-4DDB-B260-03C70C33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8FD1-70A1-4D2B-8765-A0CFAF8D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D94C-67C3-4190-849B-2C1DAA97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6805-0E4E-4B58-B2E0-989A46FB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73AF-F9B0-4E85-B917-3D881F61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2A2-41BE-41B8-A225-A8294DD4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E79-B65E-47CB-90A0-826DDD93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04F-508F-453D-AFE0-4C534638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53FE-8901-4D31-A751-D3081482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289-A5C2-46AD-8970-3267F6EC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2A1-DD40-49C9-B208-175FF71E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0BAE1-FB8D-4A70-B227-02B66A65F5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