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541"/>
        <c:axId val="45881907"/>
      </c:barChart>
      <c:catAx>
        <c:axId val="904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1907"/>
        <c:crosses val="autoZero"/>
        <c:auto val="1"/>
        <c:lblAlgn val="ctr"/>
        <c:lblOffset val="100"/>
        <c:noMultiLvlLbl val="0"/>
      </c:catAx>
      <c:valAx>
        <c:axId val="45881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B4D-6A0F-494A-B5D2-A55A1866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CC7-2E18-4C6E-9A6C-D8CA34F4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F25-1A9E-42E1-B6DD-14C6EE4D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41D-2A28-4D41-BCAD-D062AC7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A15-BC85-49FD-8428-99B53BD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B88-C5B9-4C84-AB75-773BB5E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7BA-EF99-4925-9B54-89E5B2C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3DF-1BC7-4C3A-809B-3F75428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89E-BCDD-46ED-974B-D6AABE1A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30E-F9E4-4F02-B857-4B18C1F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AF2-8F8F-4ACB-843F-C3D5439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BD3-B80D-485F-801F-BAC0133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D62D0-9B00-42E5-B5FE-6E3ABEA57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