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60579"/>
        <c:axId val="6686747"/>
      </c:barChart>
      <c:catAx>
        <c:axId val="96360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6747"/>
        <c:crosses val="autoZero"/>
        <c:auto val="1"/>
        <c:lblAlgn val="ctr"/>
        <c:lblOffset val="100"/>
        <c:noMultiLvlLbl val="0"/>
      </c:catAx>
      <c:valAx>
        <c:axId val="6686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60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F5E-1560-4DE3-B760-798BC44C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C57-0187-4F1C-B21D-196130D8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AAF-E545-49FD-AD06-B87DE468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D8E-2DA8-481D-9357-80661FB7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047-FA27-4C05-AFEF-FEEAAA80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6E7-78E7-40DB-A1EB-7BB12B2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810-0610-40B8-A034-17E3454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957-8BF3-4280-AA3E-C9A85886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3A0-4A30-4BA7-86CD-74526E6F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A17-D5A9-445B-B40C-264130F8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A7B-7176-4ECD-A594-F4C38C1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BB9-50BB-48FB-B321-27963B8E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02260-D88B-47AA-943D-4FAAF417B1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