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208609"/>
        <c:axId val="87938298"/>
      </c:barChart>
      <c:catAx>
        <c:axId val="72208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38298"/>
        <c:crosses val="autoZero"/>
        <c:auto val="1"/>
        <c:lblAlgn val="ctr"/>
        <c:lblOffset val="100"/>
        <c:noMultiLvlLbl val="0"/>
      </c:catAx>
      <c:valAx>
        <c:axId val="879382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08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4323-3FF1-4BA3-95C7-B7DE608D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CD3B-691C-46DC-8AC1-6BBA5DAE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96A-C654-4A2D-B70A-758F176C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4BC1-BEC4-40CA-9885-F5838B55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3A6-3010-4413-B991-089EDC38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8FF2-2BEE-4789-868C-F4D9D9CE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2380-1638-4DA7-8442-7F3659ED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486F-2036-4A27-9C3A-578F2A15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4A3-476F-4C5D-A788-F0390587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61C-7464-4770-8597-807A416C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D07-7847-4FF4-8B49-EFA102B3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BB4-A8F4-42FC-A8CB-B0FD5CA8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5405E-F0AD-47AF-A4DB-B1493AF430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