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552129"/>
        <c:axId val="58351328"/>
      </c:barChart>
      <c:catAx>
        <c:axId val="555212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351328"/>
        <c:crosses val="autoZero"/>
        <c:auto val="1"/>
        <c:lblAlgn val="ctr"/>
        <c:lblOffset val="100"/>
        <c:noMultiLvlLbl val="0"/>
      </c:catAx>
      <c:valAx>
        <c:axId val="5835132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5212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92967-505C-4074-AFEB-1235B20D0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FE7A0-7574-4C4B-848A-00213CF18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7CE86-FED8-42DC-98B0-351DCF265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26F38-968E-477B-B883-E253A7C18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20EDA-702E-4585-8FE3-F9BC74CBF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35CAA-66D6-489A-9F3C-3A852DA18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FF4D1-3AFF-4786-8637-98A43380C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F2F0A-B3E7-4806-B540-9C1A816D0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7AF42-90CA-4DC9-A330-4A773BACD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08D13-F123-4AD8-893F-1B677F4B0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08330-C185-43EB-B0CA-EF97A5914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3AFE8-0142-4ECB-904D-846D5445D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48D4DB-1191-4244-A765-F1A6EC7C99A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