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81970"/>
        <c:axId val="17940775"/>
      </c:barChart>
      <c:catAx>
        <c:axId val="99081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40775"/>
        <c:crosses val="autoZero"/>
        <c:auto val="1"/>
        <c:lblAlgn val="ctr"/>
        <c:lblOffset val="100"/>
        <c:noMultiLvlLbl val="0"/>
      </c:catAx>
      <c:valAx>
        <c:axId val="17940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81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285-7BBB-4E45-912A-97B661C9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344-E29D-4DA2-96C2-D69B6865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919-0C40-4BBA-B788-1EACC0F9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D87-55A9-4013-942A-B9857569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FCA-B9D4-4AE6-A64D-7663BD8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01C-67DC-4729-A789-C6DD52AA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99C-2324-4A1D-8E9E-76D4301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2F4-F6CF-49B7-ACFF-0447EAC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7BA-180B-4F11-93A2-712BAACC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26E-A5B0-4F7F-9EFF-581E4E2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84A-08BB-44BD-8AF1-2D0D828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5C2-8B45-43A7-8A26-9795232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214A4-781E-42F7-9945-48333C7696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