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5092"/>
        <c:axId val="29279149"/>
      </c:barChart>
      <c:catAx>
        <c:axId val="2995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79149"/>
        <c:crosses val="autoZero"/>
        <c:auto val="1"/>
        <c:lblAlgn val="ctr"/>
        <c:lblOffset val="100"/>
        <c:noMultiLvlLbl val="0"/>
      </c:catAx>
      <c:valAx>
        <c:axId val="29279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5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B75-EC58-4DB0-A711-BB4C132D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86A-D268-4503-860B-AE3B25E0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D03-32A0-430C-817D-BFF35312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D98-0196-4178-90FB-7F6D1796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93C-17DF-4A02-8D7E-CD0B1107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790-4748-48FD-B323-851900CD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438-206D-43C2-9C08-EFA3FB8D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4E7-BECC-4653-9050-F50C18E1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296-4831-40E1-9E32-BFDFD4B8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3B6-0492-4D4C-A929-3279679B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843-D5BC-46AA-996E-163E71BD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D96-0D49-48AF-B006-A5CB1157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954AE-A77E-4861-A9C2-871DB5B3E1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