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55105"/>
        <c:axId val="35632894"/>
      </c:barChart>
      <c:catAx>
        <c:axId val="45455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32894"/>
        <c:crosses val="autoZero"/>
        <c:auto val="1"/>
        <c:lblAlgn val="ctr"/>
        <c:lblOffset val="100"/>
        <c:noMultiLvlLbl val="0"/>
      </c:catAx>
      <c:valAx>
        <c:axId val="35632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55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0BB-ABBE-433D-896C-37D40CF8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864-763E-4901-AA99-69038F48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31C-BC20-45A1-A4AD-754EF187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E7C-84BD-4DCD-ADEF-7AB2F5D1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D69-F040-4C74-AEBF-7AF48BA2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0E6-6DD6-45A3-994A-D54D36BA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A08-3150-4BA1-8DE3-7C59C57A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658-23F8-4355-90A2-548EF3C9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2E1-1A78-43BE-97A1-73F704DC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296-9049-43AE-B851-A58D06BD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0EF-7D61-4FF2-9D45-8E87EC68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534-259F-42A6-87B6-FC78BB43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A12B1-20C4-4ED0-A79A-E890F1406E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