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29809"/>
        <c:axId val="24788786"/>
      </c:barChart>
      <c:catAx>
        <c:axId val="49929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88786"/>
        <c:crosses val="autoZero"/>
        <c:auto val="1"/>
        <c:lblAlgn val="ctr"/>
        <c:lblOffset val="100"/>
        <c:noMultiLvlLbl val="0"/>
      </c:catAx>
      <c:valAx>
        <c:axId val="24788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9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827-95C0-4FF7-8FA1-2ED1867C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61E-E48B-40BA-A81E-73E650F9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7F3-F690-493E-A7B1-D2871E02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236-F8C1-4526-8C42-3AA52466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79A-6C3F-49C1-9138-43C9B60B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F47-2EF0-4D78-A52D-0791EB5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6C6-F169-4557-B786-5A252475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9D8-44F8-4586-93BD-A5E4B0C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94F-51E6-4BE9-A123-B182539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3DB-ADCF-4269-B90B-9832D66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131-6A17-43DE-8898-5B4C85E3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9B3-17D9-4F30-9536-8D9A998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E931-8099-488C-BC00-2BE2AB84C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