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22050"/>
        <c:axId val="90739722"/>
      </c:barChart>
      <c:catAx>
        <c:axId val="38622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9722"/>
        <c:crosses val="autoZero"/>
        <c:auto val="1"/>
        <c:lblAlgn val="ctr"/>
        <c:lblOffset val="100"/>
        <c:noMultiLvlLbl val="0"/>
      </c:catAx>
      <c:valAx>
        <c:axId val="90739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22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9BFB-A146-4CAA-AE4A-DA9083AF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464-6354-4572-BA3F-7B3ACE7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7A0-BCEE-41C8-AF95-751028C9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1CC-9BF2-4453-90B1-A9F399E2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1E9-A323-4314-9984-150B0184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4C1-EFAE-47C0-B151-372540D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A4F-3DCC-4A6E-8F07-95F1444C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62D-1D0A-4734-9E5F-55367416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83E-B3BB-4FF3-8AB7-3F26E0E7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934-B1CB-405E-94C8-002B9931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C66-8FBD-4358-8AC1-EC480EE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C17-B587-4D3A-87AA-0588090C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8714B-E640-4317-9CE2-3C830581D3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