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69474"/>
        <c:axId val="97198723"/>
      </c:barChart>
      <c:catAx>
        <c:axId val="226694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98723"/>
        <c:crosses val="autoZero"/>
        <c:auto val="1"/>
        <c:lblAlgn val="ctr"/>
        <c:lblOffset val="100"/>
        <c:noMultiLvlLbl val="0"/>
      </c:catAx>
      <c:valAx>
        <c:axId val="97198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694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2DAA-033E-4DE5-8E13-86CAA786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37D-3702-4626-B76D-60BC6113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6EF8-D80A-4099-BE6A-CED16025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2572-0808-44C2-9ECC-EAD548A9F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7F8-105A-4302-B1F5-208DE53C5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959-EB2A-45C6-BD97-EACD05B3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CDA-24F7-42A0-81C1-AB9EB1A1B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8CB-6D98-4B3A-AB65-90CFA567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B69-D9C7-4603-B1DA-C44CCF1E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E63-1CD7-42DB-A41B-618CD31E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E0E3-5219-4FE1-8D0D-97CE9DF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6A1-2759-4214-A9C5-0CC42D92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2BFE3-ECDB-4B0D-970A-153E06B0BA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