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07827"/>
        <c:axId val="82462637"/>
      </c:barChart>
      <c:catAx>
        <c:axId val="70407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62637"/>
        <c:crosses val="autoZero"/>
        <c:auto val="1"/>
        <c:lblAlgn val="ctr"/>
        <c:lblOffset val="100"/>
        <c:noMultiLvlLbl val="0"/>
      </c:catAx>
      <c:valAx>
        <c:axId val="82462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07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574-0A64-4F59-99A9-3C7EC883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235-9BAA-40B1-9973-EAE105BE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CC8-5CE6-429F-BDD3-3E3C3F39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15C-6CC8-4181-84E2-EE8D11C0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4DCB-9EB5-47A6-B0D8-00CB9531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BB0-B1F4-43CE-BFE2-0F47074E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0A2-D20F-43D3-9A86-8C68A6D2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D7DD-21CA-4F6F-A942-FBEC7735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D28-9545-4CA5-BDD8-2D895954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9B3-2EC3-431A-980C-66B1DC93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438-F867-4C69-8652-482F87B1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C05-E379-4928-961F-74627AAF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EDC9F-818B-4B30-9E1E-4930DC2398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