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FC844-669F-419C-A1C5-68A12D636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8E61D-EC58-4F82-A337-AB69498F6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40D4E-9F11-42DC-86A9-5EC0A2CB6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BF573-7852-4638-A2BA-D9DAAE551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B07FD-A84F-4608-AC5B-8408B9702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0304E-7A0E-423D-A77F-F1173F9F7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5D09A-8BD7-4CAD-A0D1-B057256A6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80218-1305-45F2-9F70-C3D889187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3BD2C-20BD-4063-82E1-3CA41B5C8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ED13E-978A-482D-B6A9-4293EFAF0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FA945-B93A-4F02-8DFF-E8F953744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F0758-02EE-498C-A700-478BC3D5A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7B96A94-5FD1-4D0E-AE62-E02E326D59AC}" type="datetime">
              <a:rPr b="1" lang="zh-CN" sz="1200" spc="-1" strike="noStrike">
                <a:solidFill>
                  <a:srgbClr val="898989"/>
                </a:solidFill>
                <a:latin typeface="Calibri"/>
                <a:ea typeface="Calibri"/>
              </a:rPr>
              <a:t>26/7/29</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5E0BC79-5098-4E4B-BDF0-C926C74B1B4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3F908B3-7DFC-4263-85A6-110BB47826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