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16334"/>
        <c:axId val="30488031"/>
      </c:barChart>
      <c:catAx>
        <c:axId val="16216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8031"/>
        <c:crosses val="autoZero"/>
        <c:auto val="1"/>
        <c:lblAlgn val="ctr"/>
        <c:lblOffset val="100"/>
        <c:noMultiLvlLbl val="0"/>
      </c:catAx>
      <c:valAx>
        <c:axId val="30488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16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B07-FF23-41EA-BDE6-5DE2C5E6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F87-1ABF-45AC-9ABC-2F8FC9E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BC9-F7E6-4293-A6AA-30F08E46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7C7-F5C8-4DEF-9D41-C9C7E8E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D8E-9E21-4860-9F1B-57B5A677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A37-A4F6-49B1-8F39-356D982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0D7-4427-4411-B62F-5B04271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652-5AA2-4534-8DCE-39D3BEA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ACA-754A-4600-B058-258ADA9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FC9-A907-4500-A628-EA60EAC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A0F-92E1-4C9D-8A6F-6BB9F5C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A7D-E8B6-4CB8-A04C-48B9ADA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93083-A21A-4080-AA61-72CEA35316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