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8010441"/>
        <c:axId val="1807878"/>
      </c:barChart>
      <c:catAx>
        <c:axId val="2801044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07878"/>
        <c:crosses val="autoZero"/>
        <c:auto val="1"/>
        <c:lblAlgn val="ctr"/>
        <c:lblOffset val="100"/>
        <c:noMultiLvlLbl val="0"/>
      </c:catAx>
      <c:valAx>
        <c:axId val="180787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01044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CA60-D803-4705-8DCE-84258885C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F1DB-2050-40D6-83F3-FB2F86B7A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652E-5480-4AC1-9D76-56424DB6F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CDBB-432B-477F-99DB-228CB6B51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9901-F167-4671-A1CA-6956A0BA6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E8B9-FF60-4650-BF6C-70024200B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816C-BBB6-4146-B980-6A9C39AB4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C498-C4D4-4327-A4B5-3EBD360F7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0A8B-14CF-493F-83F0-159148AEF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95C5-3F7D-4900-9E3F-B1374C86E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FA9F-D768-41DE-891C-8DCA2993B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64FA-B813-47C9-BBBB-455EA59E5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EAEEA6-2859-4DAD-8109-33382A81DF5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