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48866"/>
        <c:axId val="34441258"/>
      </c:barChart>
      <c:catAx>
        <c:axId val="43348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41258"/>
        <c:crosses val="autoZero"/>
        <c:auto val="1"/>
        <c:lblAlgn val="ctr"/>
        <c:lblOffset val="100"/>
        <c:noMultiLvlLbl val="0"/>
      </c:catAx>
      <c:valAx>
        <c:axId val="34441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48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267-B64C-4EF2-851A-BAE6E11C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BEB8-98A1-42B7-941A-57347580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B4C-2A29-477A-ABB9-35D30699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14B-8BE2-4428-A8E9-B8226E1E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56A-2B6C-4262-8689-608EEE37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B54-B078-4C33-9BF2-A4D3C773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F53-3997-44E2-9E38-7DE13DEE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FA1-12DE-499E-8C0C-0EF3191F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50C-E730-4918-9C4D-7F8F6CE0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C6C-63FB-4DBD-81B7-BBE87048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FCE-A40E-4B38-958C-A6034191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536-6EFE-4FFB-A425-26B5FF49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93543-2EC3-47F5-A2FC-1D0276E293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