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3728"/>
        <c:axId val="95932824"/>
      </c:barChart>
      <c:catAx>
        <c:axId val="46853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2824"/>
        <c:crosses val="autoZero"/>
        <c:auto val="1"/>
        <c:lblAlgn val="ctr"/>
        <c:lblOffset val="100"/>
        <c:noMultiLvlLbl val="0"/>
      </c:catAx>
      <c:valAx>
        <c:axId val="95932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3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909-8D52-4BCB-BD1A-CF7A75A2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B3C-36D8-4643-85EA-830E6AE0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F53-43EF-4B71-8077-6C2A8295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FFE-803C-4DF5-A9C5-BCF38633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012-6CC9-488F-B461-6CEE0291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876-238F-45EA-A399-6113FC51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067-571F-4E85-81D4-3D31401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668-4FE6-4BEF-A7FC-9ECAF5B1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62F-D2AB-46AB-9B33-28893FE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055-6164-41A9-8207-FB6752D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217-85A5-424A-ABC0-BF0115B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DCA-E6CE-40BD-857A-CE978D0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8B06E-D95C-421F-9572-C13F8ADE6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