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14191"/>
        <c:axId val="47679554"/>
      </c:barChart>
      <c:catAx>
        <c:axId val="90714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79554"/>
        <c:crosses val="autoZero"/>
        <c:auto val="1"/>
        <c:lblAlgn val="ctr"/>
        <c:lblOffset val="100"/>
        <c:noMultiLvlLbl val="0"/>
      </c:catAx>
      <c:valAx>
        <c:axId val="47679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4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E4E-0F69-4D31-A409-59EB52F7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6B9-1255-468F-A320-C0EC55E4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96C-3458-42BE-80A3-4A55E4D7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0C7-D93B-4173-88EB-70D8883F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B86-165E-44FE-82B2-147C0841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DF3-06BE-4E3A-9533-C75ACEF9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ED6-076B-486D-8A70-C9887D12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667-A7C8-468F-9B2D-831047D3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4DA-54F7-4606-AA86-D995DDA4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4D9-58D6-478B-9C45-B0E71DB6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595-002C-483E-BE18-05512079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3AA-03E3-40F1-B907-01F482FA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BABD6-C744-48D5-9B35-841A895796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