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3879"/>
        <c:axId val="53757363"/>
      </c:barChart>
      <c:catAx>
        <c:axId val="5513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57363"/>
        <c:crosses val="autoZero"/>
        <c:auto val="1"/>
        <c:lblAlgn val="ctr"/>
        <c:lblOffset val="100"/>
        <c:noMultiLvlLbl val="0"/>
      </c:catAx>
      <c:valAx>
        <c:axId val="53757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3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B88-3D09-48FA-9559-7C99E255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FA7-4AB8-4EFA-9F7E-F834D0D7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272-061E-4823-9EEB-3BE4DBE1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4F5-746A-492C-B241-93027613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2DE-9C47-4BAB-A30D-755D69E5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082-55E1-4B5E-9945-AEC7594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D96-7571-4BB6-9442-8DC52F1F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86D-6C17-47F2-A6D9-DE08FF5C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4F9-2C00-460C-92D3-83B8CBC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25E-B3A0-4F23-BB41-8873123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009-9C53-4AB0-B0FE-1B620D3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B28-FDE7-4CA2-9BC9-DDAE766E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93DAE-B968-4FAD-A000-A00AA6EC81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