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73737"/>
        <c:axId val="77387890"/>
      </c:barChart>
      <c:catAx>
        <c:axId val="22173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7890"/>
        <c:crosses val="autoZero"/>
        <c:auto val="1"/>
        <c:lblAlgn val="ctr"/>
        <c:lblOffset val="100"/>
        <c:noMultiLvlLbl val="0"/>
      </c:catAx>
      <c:valAx>
        <c:axId val="77387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73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B83-D875-4AD4-B652-A51DB3EE0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A6D1-1F48-40D7-9E78-2BA03E8D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0D5-3673-4576-B661-2DD32C230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1610-AD59-442B-B8A1-548578DE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5CB3-E340-4951-BFE6-E81D1B72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B0D-F46F-409B-BF76-723BF926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DBD-E012-40CD-A9DC-734BA1E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6CC-4209-41A5-9A47-1F567BC7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2ED6-C1D4-4CF2-820A-26B8FA9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AD17-D02B-4B4B-9105-F1C574ED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0F0-3745-4400-99BC-CF6A636C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B817-51EE-49B1-8DD7-010A4725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27E76-5E54-4313-83A0-27FD405B7B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