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81663"/>
        <c:axId val="83763396"/>
      </c:barChart>
      <c:catAx>
        <c:axId val="30381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3396"/>
        <c:crosses val="autoZero"/>
        <c:auto val="1"/>
        <c:lblAlgn val="ctr"/>
        <c:lblOffset val="100"/>
        <c:noMultiLvlLbl val="0"/>
      </c:catAx>
      <c:valAx>
        <c:axId val="83763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81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857-FC61-427D-8CF1-2D722996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06A-78CC-4CCD-9189-B1EEE6F7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F42-E973-4045-9438-D02386CB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FD7-A20D-4087-937E-B1193658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900-0D84-4046-8D84-B38A694C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370-BC1D-4D11-BB75-9D497D2D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EE6-D635-41AB-88D4-8505FA8E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A0B-8F4D-4445-BFDA-506BF00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026-6902-47CD-A05F-401BEFF9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CD6-E6D9-4F82-B709-E6F6BE1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49F-7812-4AB7-B44E-003C3D0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F6D-E14D-4341-A6E9-FB80AEF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2C1E0-737F-4C77-997C-4A05C5F46A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