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25085"/>
        <c:axId val="20077705"/>
      </c:barChart>
      <c:catAx>
        <c:axId val="12625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7705"/>
        <c:crosses val="autoZero"/>
        <c:auto val="1"/>
        <c:lblAlgn val="ctr"/>
        <c:lblOffset val="100"/>
        <c:noMultiLvlLbl val="0"/>
      </c:catAx>
      <c:valAx>
        <c:axId val="20077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5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D7F-ECFD-4BB4-AC2C-1A6820FE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B46-CC69-403B-A6BD-FA5B34D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A3C-7E72-4B58-B12A-821AECC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E36-4B82-4344-B4F4-D7BC5E94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179-E6B9-41A5-826D-A24D85A6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D3C-ED0D-49CF-B751-F422EDF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126-542F-4686-B0CE-14799CC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0B5-C500-4191-96D4-7C60AC0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913-D526-4658-8D9A-8EB259B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6DC-3E4E-48AB-B2F8-2014CF41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813-F03C-4F1B-A6F7-7C40387C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66F-DA9A-4653-B5B9-1DA78CE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987F2-EA54-4BEF-9E7E-B871BD87D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