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348752"/>
        <c:axId val="3510475"/>
      </c:barChart>
      <c:catAx>
        <c:axId val="15348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0475"/>
        <c:crosses val="autoZero"/>
        <c:auto val="1"/>
        <c:lblAlgn val="ctr"/>
        <c:lblOffset val="100"/>
        <c:noMultiLvlLbl val="0"/>
      </c:catAx>
      <c:valAx>
        <c:axId val="3510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48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ED5F-4393-42AF-8C04-907018F6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0E8-3E00-4024-AB8B-A3681FC5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728-FE0C-4993-9FE2-A331C0E3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9602-FC6B-49FE-9FE1-D13486C7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F3F-1F88-49CA-9059-497E2473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63C-6967-46DA-AC04-80E1C7C7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FF2-927A-4C77-AE4D-4350C70F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440-1394-4D1F-9AD3-57928F72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ACB1-CE2E-4C8C-94E7-F439C6E0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A5AE-7ACE-4137-89A1-3B652E9F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89E0-99E2-4E2C-B327-1942D93C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F20-6590-4C1A-AD88-FDAA4539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4995B-F713-4BB8-A066-1AD22F50F2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