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6886"/>
        <c:axId val="35342966"/>
      </c:barChart>
      <c:catAx>
        <c:axId val="79368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42966"/>
        <c:crosses val="autoZero"/>
        <c:auto val="1"/>
        <c:lblAlgn val="ctr"/>
        <c:lblOffset val="100"/>
        <c:noMultiLvlLbl val="0"/>
      </c:catAx>
      <c:valAx>
        <c:axId val="35342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68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4EE-94A1-4B32-A997-14C15053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F8DA-D5B7-4C67-A192-737E22B2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BF3-0AA4-4264-8749-420B918C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9EB-7DD5-42E6-99FF-8C3445CD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B5FD-59F8-4C62-A8E7-B11BFA1C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3ACC-346E-4BB4-9929-D3BC7FAF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372-9E52-4EED-AE55-C6E0BB7E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F8C0-F3FC-4C43-9FBA-934DA48E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E784-2D75-4CB3-B706-CCDED232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EB8-D150-4465-8421-149B47D6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02A-2B00-4D1D-9F28-A44CD014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9705-7D0E-46E3-8810-261D4380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B261C-30D4-462A-B149-68BD6A7621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