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31158"/>
        <c:axId val="47303950"/>
      </c:barChart>
      <c:catAx>
        <c:axId val="28131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03950"/>
        <c:crosses val="autoZero"/>
        <c:auto val="1"/>
        <c:lblAlgn val="ctr"/>
        <c:lblOffset val="100"/>
        <c:noMultiLvlLbl val="0"/>
      </c:catAx>
      <c:valAx>
        <c:axId val="47303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31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2B52-3FE7-47AD-8574-D299EC9E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9C0-7A90-460F-9635-1A2BA221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F34-96EC-413D-8B94-91E05713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E3BB-465A-499A-A528-B34003FF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89D4-16EF-485F-8EA0-271C837D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0CE-7520-4969-A05C-75D4086D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0B7-6F2A-4A3E-852D-B93F2508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138-8AD1-40A5-B003-08F94790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918-ACF0-4A99-AC9B-CA5C967C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D7F-6926-4FAD-B58A-4A7027EF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61C-FB45-4EFE-98CB-8634B754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016-0D60-4F82-B829-32218A4B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3BE41-5533-4A29-B656-FE7DEC64B7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