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30599"/>
        <c:axId val="60408860"/>
      </c:barChart>
      <c:catAx>
        <c:axId val="24230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08860"/>
        <c:crosses val="autoZero"/>
        <c:auto val="1"/>
        <c:lblAlgn val="ctr"/>
        <c:lblOffset val="100"/>
        <c:noMultiLvlLbl val="0"/>
      </c:catAx>
      <c:valAx>
        <c:axId val="60408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0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7FD-8AD9-428F-BB04-C9894C9B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005-88FE-49CB-B163-DFB2C73E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ABD-F41B-436B-86BF-F301D632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2C3-2C51-4B14-ABA8-F866DEA5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BDD-CE1A-4B0B-B3A0-D310EE3A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53C-0AED-4E11-B7E4-50AFDD33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1F9-80D7-4326-A7AE-9F3608A9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8EB-F99D-48C4-9E27-B5875C22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769-219B-44FC-A884-31391EF8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CB8-0F9F-4734-B78C-61BDF01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6DE-F76F-4310-BB27-06F45B3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B8E-5E5F-4132-B15B-95F0C802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4CB07-D614-41B7-8623-0C04A2F4E0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