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431319"/>
        <c:axId val="12564731"/>
      </c:barChart>
      <c:catAx>
        <c:axId val="594313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64731"/>
        <c:crosses val="autoZero"/>
        <c:auto val="1"/>
        <c:lblAlgn val="ctr"/>
        <c:lblOffset val="100"/>
        <c:noMultiLvlLbl val="0"/>
      </c:catAx>
      <c:valAx>
        <c:axId val="12564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313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00AB-B37F-40F2-BF3C-5F605C04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7B4D-5EBB-4E34-AA3F-8D59459B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5964-6A27-48C3-93F3-978015A5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C4D3-B69D-44BC-9220-D0AF8FE6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A868-D8EE-4B3B-9E8F-C6EB2890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0C4B-59A5-4FFC-B7D6-2D6FBA27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018-7B02-440B-A890-EC64A0EE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231D-BD4A-4F60-9C55-2861482B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5630-6ECB-4785-A74E-AC232007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B4B-A01E-45BA-BDB6-7F7E3E9B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5BAE-CEAA-4000-A3DA-2F995668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2BBB-0E5C-42A9-9CEC-54D348D9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2825F-11F8-4FA0-B006-D594506F02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