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45841"/>
        <c:axId val="54598382"/>
      </c:barChart>
      <c:catAx>
        <c:axId val="20945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8382"/>
        <c:crosses val="autoZero"/>
        <c:auto val="1"/>
        <c:lblAlgn val="ctr"/>
        <c:lblOffset val="100"/>
        <c:noMultiLvlLbl val="0"/>
      </c:catAx>
      <c:valAx>
        <c:axId val="54598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5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C7F-E7D7-4797-8B16-960EA3A4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766-19A5-4B6E-8084-7FA96AD9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C5F-38D7-48D4-8199-467A7C6E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CF9-084B-4EEE-917C-6EB90DA8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5E3-BF9E-4162-9C95-1C578A1B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E98-541E-47E4-85C5-DD68AD70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16A-4C40-4B1D-B99C-58467BA2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055-C091-47BD-B4CB-3239A8F2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259-76B9-419C-B501-6FF6DDF4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BC7-B7FF-4716-8F43-6508870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CD9-42DA-4DE9-A854-79943B8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49E-597E-4B8E-9EAF-7AEBC86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B5AFD-64BC-41E1-90D4-580B895E3B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