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635293"/>
        <c:axId val="45214531"/>
      </c:barChart>
      <c:catAx>
        <c:axId val="756352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214531"/>
        <c:crosses val="autoZero"/>
        <c:auto val="1"/>
        <c:lblAlgn val="ctr"/>
        <c:lblOffset val="100"/>
        <c:noMultiLvlLbl val="0"/>
      </c:catAx>
      <c:valAx>
        <c:axId val="452145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6352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928F-AB91-42B1-99D1-C417FDE8A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2480-D0CD-42AB-9015-555FA3685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BAC1-81AA-4426-8203-5A2F4519D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174C-D53C-40B0-8F36-301A324B2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873D-20C9-419E-9992-AF49F7609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2E9D-7C8B-4F0D-AF5C-4FE7A492C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7DC2-867B-4DEE-813F-56583DBF4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7D08-F5DD-4BBA-B241-7600EEBB1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0FAF-5B77-4C50-9229-233F5F657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1678-2608-4F58-BDFB-0C8426B3C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B143-E4A8-4903-9654-124E6EB0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1C93-BC7B-4BB5-B0D2-58763064C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131B6C-1CFC-4AD8-8BA1-D991C14A950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