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46338"/>
        <c:axId val="52685814"/>
      </c:barChart>
      <c:catAx>
        <c:axId val="68846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85814"/>
        <c:crosses val="autoZero"/>
        <c:auto val="1"/>
        <c:lblAlgn val="ctr"/>
        <c:lblOffset val="100"/>
        <c:noMultiLvlLbl val="0"/>
      </c:catAx>
      <c:valAx>
        <c:axId val="52685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46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54A-84F2-4428-8879-8452E4E1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36FE-A1F7-40B3-94BF-7326B87E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D6A-987C-4ED9-91DA-C01BA643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30C-D5DF-4E0C-8136-898D520C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52AB-664F-4983-89A2-2BC88130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D011-5D51-4F93-9998-27EEE247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2EA6-08C3-47A3-80BC-7C333CE5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AEF1-1BF4-4332-8A9F-D3741B20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ACA6-1719-44AA-BD3C-9BB2F224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CDA-8BF4-40D1-A21C-DC46D8FF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10A1-3DBA-4346-8D8C-7FE0AFE7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1EA-7C95-4DDB-8D9D-930B8C20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33029-EEE1-41D4-9D70-B129949D33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