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556604"/>
        <c:axId val="80016267"/>
      </c:barChart>
      <c:catAx>
        <c:axId val="785566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16267"/>
        <c:crosses val="autoZero"/>
        <c:auto val="1"/>
        <c:lblAlgn val="ctr"/>
        <c:lblOffset val="100"/>
        <c:noMultiLvlLbl val="0"/>
      </c:catAx>
      <c:valAx>
        <c:axId val="800162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5566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F38D-7729-492A-B7D2-7ACDE619F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A634-96B6-4FA5-B74F-22289985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FCAEA-F5A5-4479-B69A-FEEB3E376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3B52-27D9-4821-B120-DABF64453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A96B-ACC9-47EF-BD35-C8BCC9C4E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DA90-7D4A-4370-9051-6E8368C2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CD07-923C-4C32-B638-45D0C24E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4625-D29C-4045-83AC-753B4FBD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F93A-7A43-45D2-ABA6-20A3B6DE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55F4-EF66-4274-A990-3392BB671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178C-AF68-46DB-8539-7AEC893E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7F94-8F67-41FB-97FC-BE01E8B6A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8AA18B-7F04-417F-A96D-33A50E7DFA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