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34720"/>
        <c:axId val="51752361"/>
      </c:barChart>
      <c:catAx>
        <c:axId val="38934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52361"/>
        <c:crosses val="autoZero"/>
        <c:auto val="1"/>
        <c:lblAlgn val="ctr"/>
        <c:lblOffset val="100"/>
        <c:noMultiLvlLbl val="0"/>
      </c:catAx>
      <c:valAx>
        <c:axId val="51752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34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6DE-F08F-4396-A62A-B3B52417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BA3-7971-45D2-8307-134070C5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18B-0A02-402C-943B-D299A02F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EFB-25F4-4ADE-8148-001C84EC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FC2-6B3D-4B25-A659-B955EE5A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B99-C610-465D-A060-D45C74B4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91DC-5377-436E-9C14-5A3A0597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98C4-AD55-41EC-B113-1141CF70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5D8-7134-41F9-9502-C9DFCB83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DC3-01EA-4D16-9C3F-E1E83E0E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3A7-D059-44E0-97AA-B9C49A4B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35E-A806-49D7-AAB4-E92B6793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71199-FF01-49F8-9740-FC628A7B23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